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19DA7-0B7B-44C6-AE08-5D2F2173F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B6AB-4F97-4E24-9177-5E06B585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2DB2B-16B6-4C4B-843A-E27E6B3F6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F2DD3-AC84-465E-8ABF-7C6FB9B62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CA4E6-D1ED-4654-A072-83B7E158D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853F-232C-4C5F-8302-73D3513F1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17DAE-8DDA-4B19-8366-7C24A552A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40358-C731-4860-B652-6158BD5FD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58D2E-0D88-4C95-ADF4-0917B10ED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C95F1-0BE3-4823-9AD2-31061684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7AC6-AED7-4A4F-AD02-7DF4201F1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0C6A-7983-4C92-AF99-587C9E3EB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0245-CBF1-41ED-AF2E-8A2CAFF29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Risk Kids</a:t>
            </a:r>
            <a:endParaRPr b="0" lang="en-US" sz="4400" spc="-1" strike="noStrike">
              <a:solidFill>
                <a:srgbClr val="000000"/>
              </a:solidFill>
              <a:latin typeface="Arial"/>
            </a:endParaRPr>
          </a:p>
        </p:txBody>
      </p:sp>
      <p:sp>
        <p:nvSpPr>
          <p:cNvPr id="42" name=""/>
          <p:cNvSpPr/>
          <p:nvPr/>
        </p:nvSpPr>
        <p:spPr>
          <a:xfrm>
            <a:off x="228600" y="15228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Rh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6854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y create and sustain the relationship you have with the child and make sure the kid knows you care. They also help the kids make realistic goal that they can achieve. Showing the child a helpful pathway that will let them reach their goals that they have set is important. Make sure the kid and your self tries to engage themselves with the community and school including friends.( “Four Keys To Helping At Risk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ke sure to make the problem or need apparent to you and the child you are working with. Have a clear solution to the problem or need. Try and come up with the best way to efficiently communicate with the child. Come up with a time frame in which to solve the issue at hand. (“Advocacy T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ry to find unique ways to get through to the child. Share your experience with others to help them learn which ways are best to help a child at risk. Make sure you listen to the needs of the child at risk. Communicate with the child in a safe environment that is clean, home like, and friendly. (“Program Uses Art To Engage At-Risk K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7:31:54Z</dcterms:created>
  <dc:creator>dcsuser</dc:creator>
  <dc:description/>
  <dc:language>en-US</dc:language>
  <cp:lastModifiedBy>dcsuser</cp:lastModifiedBy>
  <dcterms:modified xsi:type="dcterms:W3CDTF">2010-02-17T17:32:25Z</dcterms:modified>
  <cp:revision>2</cp:revision>
  <dc:subject/>
  <dc:title>At Risk Kids</dc:title>
</cp:coreProperties>
</file>